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D5D-E9B6-4DD5-85FE-D61F8A95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8A5-EB14-4232-892C-68EDE43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CF3-0121-4639-A021-EAC6EFFB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FB9-30BA-47D3-9F76-F022EFBA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36D-9F58-4801-B804-AE0D440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DE6-6F36-4100-830B-632DB9CD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E43-55B8-4A52-BE51-D0411A7C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C48-93EE-4B92-AC3F-AB56485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8F3-29DD-4E15-9191-A3642EF6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C62-8021-40A6-B5EE-B98A63D2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D84-3BEA-43DA-BBCF-3F35332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636-DC14-4F12-8084-7E7C97E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753A-249D-48D6-8871-31DC28F2F35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rning from the Biennia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ng a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the Plenary discuss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oices of the youth were a powerful reminder of the imperative of quality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axis approach proved once again to be a valuable methodology that encourages learning and ref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a rich and valuable reservoir of African experience with quality improvement; but it is often insufficiently researched and 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ry conditions vary a great deal, this allows for learning but at the same time makes change and adaptation an imperative feature of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the Plenary discussion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and equity are concurrent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considerable untapped resources that can be activated in every syst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e and promising new forms of partnership are emerging, but partners need to reflect on ways to enhance effect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for further thought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entralization comes in many shapes and forms, it involves usually increased scope for  school based management, progress is often uneven but when sustained over time results can be prom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pose of assessment is measuring and understanding the determinants of progress in learning achievement ov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eful documentation of the lessons of experience is a precondition for evidence based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is of the essence: high level political leadership, systematic well organized participation and sustained support to front line implem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ntity of resources does not by itself ensur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for further thought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s are at the heart of the quality improvemen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teaching incorporates a range of instructional and assessment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d teachers are the transformational leaders on the path towards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 support systems are a key element of the quality improvemen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improvement is a process that lives or dies in the class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of communities and organized civil society often is central to school effec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 enough time to reflect 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key features of pro-poor educational development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involved in adopting and a sustaining a quality of culture in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hinking strategies for going to 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capacity development efforts become more 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wide and intersectoral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tages and disadvantages of financing strategies such as differentiated fees and community finan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re do we in ADEA go from her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tinued reflection on and documentation of the evidence of th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se of African languages as the medium of instruction in the early year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less passion and more, carefully researched evi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stained focus on mitigating the impact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IV/AID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are the key elements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ffective teaching and powerful learning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in African classroo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ffordable strategies fo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arly childhood program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need to be tested in a number of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ender challen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from advocacy and experimentation towards comprehensive strategies: when to target when to mainstre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versity and flexibility in practice: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tegrating alternative progra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hallenge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362320"/>
            <a:ext cx="7010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mproving the Quality of Basic Educat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 Sub-Saharan Af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029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mments as soon as possib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verspoor@worldbank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mbele.martial@uqam.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.sedel@iiep.unesco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4079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ynthesis of Experience and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14:54:21Z</dcterms:created>
  <dc:creator>WB08731</dc:creator>
  <dc:description/>
  <dc:language>en-US</dc:language>
  <cp:lastModifiedBy>Min of Education</cp:lastModifiedBy>
  <dcterms:modified xsi:type="dcterms:W3CDTF">2003-12-06T11:04:03Z</dcterms:modified>
  <cp:revision>11</cp:revision>
  <dc:subject/>
  <dc:title>Learning from the bienniale </dc:title>
</cp:coreProperties>
</file>